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7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FCE-7C01-40F3-AF93-105E3AA2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0CD-7F63-4681-8571-652B12FA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2AE-36D3-4EEC-8BE9-CB717BD7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4AE-028E-4C2D-A600-654478AD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ACE7-335E-4BA0-9DFE-4113D054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AC49-9B67-4AF4-A0B9-EF355F62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411B-563F-4692-8038-A7B56372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98C7-EF48-487E-80B5-74B51F20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076A-E5CE-479E-8295-00DBB914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471B-FA4D-49D9-BAEB-01B7868E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7069-5939-472F-9ECE-F23CC96D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237-93C1-4BA5-A9B6-01B33A77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58AF-45BD-4878-B636-BE6172CA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83A8-F65B-4AEF-A6BF-DD3F0196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2FB5-F21A-4F53-A971-A79F91E9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6C01-3DF0-456F-9D97-843CB469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3DE3-D54D-4A3F-A5C0-7B091AC2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9C0-AA87-48B0-B03F-3AE79DBA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C5D-3A0B-46D3-8894-259C004C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8330-AAF8-4B03-B23E-A1F78668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21E-D9AF-4539-92B3-310009DA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4C4-6231-4E15-AC3C-8213566B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291-4B57-48A8-B2E4-C5499455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1479-D885-425A-BF20-18DB803C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DF32-A92F-46A6-B293-A362FC34F6A3}" type="slidenum"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2538360"/>
            <a:ext cx="6406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AA15-6774-4E24-8255-7A98B3B7BF22}" type="slidenum"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87280" y="620640"/>
            <a:ext cx="6840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6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、减慢食物变质的速度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00720" y="6381720"/>
            <a:ext cx="4432320" cy="1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整理者：建德市新安江第一小学 秦爱军</a:t>
            </a:r>
            <a:endParaRPr b="0" lang="en-US" sz="20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68360" y="90792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一、观察变质的食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220500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你吃过鱼干吗？味道怎样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96000" y="3278160"/>
            <a:ext cx="4248000" cy="3579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7632720" cy="2079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620640"/>
            <a:ext cx="47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新鲜的小鱼干和腐败的小鱼、干面包和发馊的面包，有哪些不同的地方？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3781440" cy="327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3429000"/>
            <a:ext cx="7632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、小鱼为什么在短时间里腐败了？鱼干为什么能长时间地保持好闻的气味？</a:t>
            </a:r>
            <a:endParaRPr b="0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62864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、腐败的小鱼、发馊的面条与发霉的面包有哪些相似的地方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360" y="260280"/>
            <a:ext cx="172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24000" y="18900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、储存食物的各种方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41300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我们已经知道引起食物变质需要有一定的空气、水分和温度等条件，如果要储存一条新鲜的小鱼，可以用什么方法？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997360"/>
            <a:ext cx="84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小组讨论交流，并说说运用这种方法储存食物的理由。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393372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食品罐头为什么可以用这种方法能储存食物？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4653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你还知道哪些储存食物的方法？为什么这些方法能减慢食物变质的速度？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95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讨论：你还能用什么方法来储存食物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24360" y="0"/>
            <a:ext cx="2448000" cy="1968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724360" y="1989000"/>
            <a:ext cx="2448000" cy="1511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724360" y="3500280"/>
            <a:ext cx="2376720" cy="1357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796000" y="4869000"/>
            <a:ext cx="2376360" cy="1290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69120" y="2637000"/>
            <a:ext cx="5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晒成鱼干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40560" y="4005360"/>
            <a:ext cx="5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3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用盐腌成咸鱼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71880" y="537372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4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做成罐头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40560" y="1125360"/>
            <a:ext cx="6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放进冰箱冷冻</a:t>
            </a: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0"/>
            <a:ext cx="3673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储存一条鱼的方法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42100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 Narrow"/>
              </a:rPr>
              <a:t>同一种食物，我们可以用多种不同的方法来减慢它的变质速度。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5075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判断题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食物的腐败变质是由微生物的大量繁殖引起的。（  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微生物的生长与繁殖，需要空气、水分和适宜的温度。（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闻变质食物的气味时，要扇闻，并尽量少闻。（    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用冷冻、晒干、真空包装等方法，能减慢食物变质的速度。其原因是破坏了微生物生长所需的条件。（    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260280"/>
            <a:ext cx="3527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考考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206960"/>
            <a:ext cx="8280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填空：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◆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食物的腐败变质是（            ）引起的。使面包发霉的</a:t>
            </a:r>
            <a:r>
              <a:rPr b="0" lang="zh-CN" sz="2000" spc="-1" strike="noStrike">
                <a:solidFill>
                  <a:srgbClr val="ff00ff"/>
                </a:solidFill>
                <a:latin typeface="Arial Narrow"/>
              </a:rPr>
              <a:t>霉菌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就是（        ），还有许多肉眼看不见、用放大镜也看不见的</a:t>
            </a:r>
            <a:r>
              <a:rPr b="0" lang="zh-CN" sz="2000" spc="-1" strike="noStrike">
                <a:solidFill>
                  <a:srgbClr val="ff00ff"/>
                </a:solidFill>
                <a:latin typeface="Arial Narrow"/>
              </a:rPr>
              <a:t>细菌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，也是（           ）。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◆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微生物的生长与繁殖和植物、动物一样，需要一定的条件。在（         ）的环境里，它们能很快地繁殖。越来越多的微生物分解、吸收食物中的（       ），同时排出（      ），使食物不再是原来的样子，食物（               ）了。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23:54:43Z</dcterms:created>
  <dc:creator>雨林木风</dc:creator>
  <dc:description/>
  <dc:language>en-US</dc:language>
  <cp:lastModifiedBy>微软用户</cp:lastModifiedBy>
  <dcterms:modified xsi:type="dcterms:W3CDTF">2010-02-18T13:46:21Z</dcterms:modified>
  <cp:revision>12</cp:revision>
  <dc:subject/>
  <dc:title>幻灯片 1</dc:title>
</cp:coreProperties>
</file>